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099-E206-457E-9A29-F98C40E1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311-0192-41F4-8297-6CC12FB3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E00-A796-411D-8628-552F2D0A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229-4D5F-4032-A749-4C7D35FC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910-4D8B-4366-9030-F907116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F45-9FF5-4052-8671-778AA5A4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EB8-3748-4B00-A71C-98489B5D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B47-6514-4C96-BCEB-067AB62C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97F-5009-4774-968A-A947C29C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990-33F9-4A30-B3A6-299FFF6B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6EA-D17A-4E06-A93F-1A3D4B28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891-B31F-4F29-8867-B0D339E6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A7E-8594-4439-993D-366DE6B495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6960" y="115920"/>
            <a:ext cx="8656560" cy="2395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</a:rPr>
              <a:t>ВЫПОЛНИЛА УЧЕНИЦА 5 КЛАССА </a:t>
            </a:r>
            <a:r>
              <a:rPr b="0" lang="ru-RU" sz="4500" spc="-1" strike="noStrike">
                <a:solidFill>
                  <a:srgbClr val="0d0d0d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</a:rPr>
              <a:t>АБОВА </a:t>
            </a:r>
            <a:r>
              <a:rPr b="0" lang="ru-RU" sz="4500" spc="-1" strike="noStrike">
                <a:solidFill>
                  <a:srgbClr val="0d0d0d"/>
                </a:solidFill>
                <a:latin typeface="Times New Roman"/>
              </a:rPr>
              <a:t>Т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</a:rPr>
              <a:t>АМА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614376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ЫКТЫВКАР  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594640" cy="128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ЛЕНЕНИЕ ТЕЛА ПЛЕНЯЕТ ДУШУ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Содержимое 5" descr="random_walls.capa.ru.003.jpg"/>
          <p:cNvPicPr/>
          <p:nvPr/>
        </p:nvPicPr>
        <p:blipFill>
          <a:blip r:embed="rId2"/>
          <a:stretch/>
        </p:blipFill>
        <p:spPr>
          <a:xfrm>
            <a:off x="1785960" y="3429000"/>
            <a:ext cx="5411880" cy="2906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20840" y="255600"/>
            <a:ext cx="8296200" cy="1171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Контраст - это резкая противоположность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. н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лстой делает характеры своих героев контрастными , то есть противоположными. Даже основную идею рассказа можно представить в виде контраста : война и вражда разъединяет людей , как татар и русских, а соединяет людей – чувство доброты , милосердия , уважения к другому человеку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62080" y="19080"/>
            <a:ext cx="8772480" cy="149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ПЕЛ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БР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СТ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КОЙ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ТР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ЛЮБ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РАЗИТЕ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АТЕ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ТЕР НА ВСЕ РУ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random_walls.capa.ru.003.jpg"/>
          <p:cNvPicPr/>
          <p:nvPr/>
        </p:nvPicPr>
        <p:blipFill>
          <a:blip r:embed="rId2"/>
          <a:stretch/>
        </p:blipFill>
        <p:spPr>
          <a:xfrm>
            <a:off x="5929200" y="2000160"/>
            <a:ext cx="228600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20840" y="103320"/>
            <a:ext cx="8242200" cy="149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Б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АТЕЛЬ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Б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ЕРЯ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УКЛЮЖ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3" descr="1259100496_i4a673356b1eaf[1].jpg"/>
          <p:cNvPicPr/>
          <p:nvPr/>
        </p:nvPicPr>
        <p:blipFill>
          <a:blip r:embed="rId2"/>
          <a:stretch/>
        </p:blipFill>
        <p:spPr>
          <a:xfrm>
            <a:off x="4929120" y="2071800"/>
            <a:ext cx="316548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15280" cy="1280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Н НЕ ОБОЗЛИЛСЯ НА СВОЕГО СПУТНИКА,ЧТО ТОТ ОТ СТРАХА БРОСИЛ ЕГО В ТРУДНЫЙ МОМЕНТ,А ИСКРЕННЕ ПОМОГАЛ И ПОДДЕРЖИВАЛ В ТЯЖЁЛЫХ УСЛОВИЯХ ПЛЕНА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ЮБОГО НАРОДА В ПОЧЁТЕ ХРАБРОСТЬ,СМЕЛОСТЬ ,УМЕНИЕ СОХРАНИТЬ СВОЮ ЧЕСТЬ,ДАЖЕ ЕСЛИ ЧЕЛОВЕК НАХОДИТСЯ В СТАНЕ ВРА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ЫЛИН ЖЕ ПРОЯВИЛ СЛАБОХАРАКТЕРНОСТЬ,ВЕЛ СЕБЯ НЕУВЕРЕННО, ПОСТУПАЛ ПРИДАТЕЛЬСКИ  И НЕОСМОТРИТЕЛЬНО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МИЛИИ ГЕРОЕВ НАХОДЯТСЯ КАК БЫ В ПАРЕ,ДАЖЕ РИФМУЮТС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А-ПРОЧНОЕ ОКОНЧАНИЕ МЫШЦ,ОТСЮДА СЛОВА «ЖИЛИСТЫЙ», «ДВУЖИЛЬНЫЙ»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 ГОВОРЯТ О ВЫНОСЛИВОМ,КРЕПКОМ ЧЕЛОВЕК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 РАЗ ТАКИМ И ЯВЛЯЕТСЯ ЖИЛИН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ОСТЫЛЬ-ЭТО ПАЛКА ДЛЯ ХРОМЫХ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ЫЛИН НЕ МОЖЕТ БЕЗ ОПОРЫ И ПОДДЕРЖКИ,ОН СЛАБЫ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 АВТОР С ПОМОЩЬЮ ФАМИЛИЙ ДАЁТ ГЕРОЯМ ДОПОЛНИТЕЛЬНЫЕ ХАРАКТЕРИСТИКИ И ВЫРОЖАЕТ СВОЁ ОТНОШЕНИЕ К ГЕРО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43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chugreev.ru/chaldini/contras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www.lit100.ru/text.php?t=111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www.rvb.ru/tolstoy/01text/vol_10/01text/024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festival.1september.ru/articles/557006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http://www.rvb.ru/tolstoy/01text/vol_10/01text/024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31:25Z</dcterms:created>
  <dc:creator>я</dc:creator>
  <dc:description/>
  <dc:language>en-US</dc:language>
  <cp:lastModifiedBy>я</cp:lastModifiedBy>
  <dcterms:modified xsi:type="dcterms:W3CDTF">2010-04-28T06:13:03Z</dcterms:modified>
  <cp:revision>33</cp:revision>
  <dc:subject/>
  <dc:title>Слайд 1</dc:title>
</cp:coreProperties>
</file>